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3C899-6C59-4363-A68B-9DC6A7F989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49D39-2EBD-4D6E-A99F-B7DCDD39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2F716-B224-4CFA-94B0-3DE30F4E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295C2-C7EC-4AAD-BAA5-123EA10A6C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7C960-19F6-429C-B14C-D71DEE2C1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3D144-EF80-4CF1-A385-942182080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ADF1A-0C88-4CA0-92AA-CFE6D4183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F73E8-228A-4DAC-8344-57CFA7101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EB60A-D57C-493C-904A-A974BF276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F62C1-BECC-42B3-8B9C-4DAD342D4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EC955-4AD9-4F7C-A4EA-99E76F4D0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8DC7A-5B3F-40AC-8EA0-2F272FDF4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916C2-FEC3-4F7D-9C4F-5A50C604606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99640" y="2276640"/>
            <a:ext cx="7201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功能紊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主要是用抗菌药物控制感染并密切观察病情变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单纯性阑尾炎：行开腹阑尾切除术或腹腔镜下阑尾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化脓性或坏疽性阑尾炎：行阑尾切除术。如腹腔内已有脓液，可清除脓液后关闭腹膜，留置引流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周围脓肿：如无局限趋势，行切开引流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1-1 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急性阑尾炎，拟行阑尾切除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　与阑尾炎症或手术创伤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　与呕吐、禁食、腹膜炎症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出血、切口感染、粘连性肠梗阻、腹腔感染或脓肿、粪瘘、阑尾残株炎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痉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粘连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腔感染或脓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粪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残株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非手术治疗痊愈的患者，应合理饮食，增加饮食中纤维素含量，避免饮食不节制和餐后剧烈运动，注意劳逸结合，适当锻炼身体，增强体质，提高机体抵抗力，遵医嘱继续服药，以免疾病复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手术治疗的患者，出院后注意适当休息，逐渐增加活动量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内不宜参加重体力劳动或过量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如果出现腹痛、腹胀、高热、伤口红肿热痛等不适，应及时就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阑尾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管腔阻塞和细菌入侵繁殖是重要因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炎发病初期腹痛定位不明显，其典型的临床表现是转移性右下腹痛，主要体征为右下腹固定压痛和不同程度的腹膜刺激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诊断明确后应早期行阑尾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非手术治疗期间和手术前应密切观察患者的腹痛情况，有腹膜炎者应取半坐位，并积极做好术前准备；术后鼓励患者早期活动，并观察有无出血、切口感染、腹膜炎、腹腔脓肿、粪瘘等并发症发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急性阑尾炎的病因、常用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急性阑尾炎的典型临床表现和治疗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急性阑尾炎患者出现转移性右下腹痛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急性阑尾炎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阑尾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cute appendic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一种最为常见的急腹症。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人在一生中罹患此病，以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的青壮年发病率最高，且男性发病率高于女性。其病因主要是阑尾管腔阻塞和细菌入侵。致病菌多为肠道内的各种革兰阴性杆菌和厌氧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1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青年男性，上腹部和脐周隐痛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前自觉右下腹疼痛，并逐渐加重，伴有恶心，呕吐胃内容物一次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10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10/7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腹部平坦，右下腹麦氏点有明显压痛、反跳痛，无腹肌紧张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常规：白细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4.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中性粒细胞比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5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8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有转移性右下腹痛，是急性阑尾炎的典型特征。腹痛发作始于上腹，逐渐移向脐部，之后转移并局限在右下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同类型的阑尾炎其腹痛也有差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同位置及不同指向的阑尾炎，其腹痛部位也有区别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图片 4" descr="说明: 阑尾的解剖位置"/>
          <p:cNvPicPr/>
          <p:nvPr/>
        </p:nvPicPr>
        <p:blipFill>
          <a:blip r:embed="rId1"/>
          <a:srcRect l="0" t="0" r="0" b="11967"/>
          <a:stretch/>
        </p:blipFill>
        <p:spPr>
          <a:xfrm>
            <a:off x="1979640" y="1474920"/>
            <a:ext cx="4748040" cy="4176720"/>
          </a:xfrm>
          <a:prstGeom prst="rect">
            <a:avLst/>
          </a:prstGeom>
          <a:ln w="0">
            <a:noFill/>
          </a:ln>
        </p:spPr>
      </p:pic>
      <p:sp>
        <p:nvSpPr>
          <p:cNvPr id="120" name="矩形 4"/>
          <p:cNvSpPr/>
          <p:nvPr/>
        </p:nvSpPr>
        <p:spPr>
          <a:xfrm>
            <a:off x="3333600" y="56516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阑尾不同的位置及指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出现畏食、恶心、呕吐，有的病例可能发生腹泻。盆腔位阑尾炎，炎症刺激直肠和膀胱，引起排便、里急后重、黏液便等直肠刺激症状。弥漫性腹膜炎时可致麻痹性肠梗阻，腹胀、排气排便减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有乏力、头痛等，炎症重时出现中毒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下腹压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急性阑尾炎常见的重要体征。压痛点通常位于麦氏点，即右髂前上棘至脐连线的中外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交界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膜刺激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下腹包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结肠充气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ovsin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大肌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soa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孔内肌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Obturato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指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多数急性阑尾炎患者的白细胞计数增多，中性粒细胞比例上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平片可见盲肠扩张和液气平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检查有时可发现肿大的阑尾或脓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扫描可获得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相似的效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18:27Z</dcterms:modified>
  <cp:revision>109</cp:revision>
  <dc:subject/>
  <dc:title>内科护理学</dc:title>
</cp:coreProperties>
</file>